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A2CA6-02CE-4CE6-961F-B25A6F87D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A0E25-2744-4874-98CC-51577B4C5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68841-9ECC-4B6E-BB0F-1EBBA2657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4D4E4-A062-4E85-A53E-E752E3B11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175F3-F4A4-4B78-9FFA-3FB9F19C7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6E519-57D0-4A1D-9EB6-156DA6551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0D088-F1B8-4DE6-AEB4-99E5964EC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CEA77-DE1A-4F25-9040-EC148A063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937CC-B926-4CFC-ABA0-9F12669BF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468D8-C2F9-4257-A691-9692EA066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CF621-373D-4744-94E2-D2D7566A0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50155-A630-4E2E-9395-463EF9996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D8FF9-3AD6-455D-A365-110EBF454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76C6E-717B-4453-8C5D-B7D333C88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4B144-251D-49E7-921D-2FB8A2E1A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F57E5-063B-4B26-BC8A-30E9E7CAB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A759B-0DB0-45F6-B948-BA0FF55FD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4F9AC-CEA5-4192-BBEE-66AAFC25E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4C29F-280F-4232-9A3A-E28BE3D47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650B2-BBE7-4B33-9F09-699D623C8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1B453-D239-4ED2-8A3B-829FFAE31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C4A58-4216-416F-AFF5-E7C680DFA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72B80-841F-438D-8D70-8090B5A60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4F790-54F9-4418-96B5-B7AF76725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6E715-1267-4D43-95BC-87F318252D73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C282C-D2D8-489B-88C9-8A947580B58E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2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직의 성격과 </a:t>
            </a:r>
            <a:br>
              <a:rPr sz="5400"/>
            </a:b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          교사의 역할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교에서의 비형식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형식적인 구조에서 허용되지 않는 방식으로 자신을 표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형식적 구조를 통해 형식적 임무수행이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형식적 구조를 통해 공식적인 조직의 목적이나 절차가 수정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의 소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취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신 등의 비형식적 구조가 형식적 구조에 영향을 미침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부수적인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르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촉진자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는 촉진자가 되어야 한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급에서의 교사의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형식화된 지식 전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식적인 교사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회화 중재 역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내면화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을 위한 올바른 평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아실현과 동기부여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역할극이 마감되는 것을 인지하는 교사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자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품과 전문성 겸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이상적인 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언적 접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천적 접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한국교육개발원의 연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나오는 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대정신에 따라 교육내용과 방법이 달라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자질도 달라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그러나 봉사와 사명감은 존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성에 기초한 학생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중심의 교직의 실행력은 곧 바람직한 교사의 자질로 재현될 것이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람이 그리운 사회에서 사람만이 희망이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이란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?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와 교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의사와 의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죄인과 인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특징과 중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을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의 정신생활을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성숙자를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봉사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가와 민족에 영향을 미치는 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진보에 중요한 역할을 담당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7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향상을 도모하기 유리한 직업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을 보는 관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노동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공 봉사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전문성과 자율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전문성과 자율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율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본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에서의 직업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에서의 비형식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부수적인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급에서의 교사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기본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지식과 기술을 전달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회화 과정을 조력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평가의 주체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별평가와 성취평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교에서의 직업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피고용인의 역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경영에서의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장과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부모와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가의 역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다면적인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족관계의 역할을 모두 수행하는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관찰력이 분명하고 정확한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7T01:34:59Z</dcterms:created>
  <dc:creator>XPuser</dc:creator>
  <dc:description/>
  <dc:language>en-US</dc:language>
  <cp:lastModifiedBy>XPuser</cp:lastModifiedBy>
  <dcterms:modified xsi:type="dcterms:W3CDTF">2008-09-17T02:16:16Z</dcterms:modified>
  <cp:revision>6</cp:revision>
  <dc:subject/>
  <dc:title>제 2장 교직의 성격과            교사의 역할</dc:title>
</cp:coreProperties>
</file>